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22A-91D5-45F8-906E-2FE1EAB8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D71-C4D3-4CF4-8F25-0E795202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CFF-0FD4-4511-A3E3-EBC82D0E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D04-234F-432E-81A6-12D2B843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B2DF-030A-444F-A71F-53AB207E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FDAA-121E-40D6-9DC1-33C82D8E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8978-DCF0-425A-A841-57365DF1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7B36-3676-4713-89CD-54DD9718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0076-0131-4B1A-984F-3FF2870B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7EDA-E296-4FF4-ADC3-0889EFEC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C5D9-6038-4711-9193-7B5FC11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B88-371C-41F9-9B30-4A4456E8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38AB-F66C-4B21-BF14-B93C9A2C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2CC6-20F6-417F-B98D-9717CCB8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B127-0E22-4D42-BA3C-468ED63D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41DC-198E-473B-ADAD-FF86F987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78F5-F15B-4532-9E22-D7A61EED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4ED-D96E-4BB3-B33F-FA9925B7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C95-0FE4-47DB-9F13-AE2CFB28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5E9-6781-460A-AC32-29189540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7A3-4152-4885-9770-05AA0A7D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F52-0C11-4233-8D35-BBF34C72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E29-CB12-4E73-89B2-587E4730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9FB-9468-4610-810D-D4458E21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4578-1C5B-4E53-8500-2BED2F9D4B1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89BB-8932-4FFD-9C4C-C128B4DBEE1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285920" y="50004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МКОУ «Большеатлымская     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857160" y="421920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Тема: «Интеграл и его практическое применени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786120" y="1793160"/>
            <a:ext cx="5072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Arial Unicode MS"/>
              </a:rPr>
              <a:t>Сближение теории с практикой дает самые благоприятные результаты, и не одна только практика от этого выигрывает, сами науки развиваются под влиянием е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Arial Unicode MS"/>
              </a:rPr>
              <a:t>П. Л. Чебыше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6"/>
          <p:cNvSpPr txBox="1"/>
          <p:nvPr/>
        </p:nvSpPr>
        <p:spPr>
          <a:xfrm>
            <a:off x="1547640" y="476280"/>
            <a:ext cx="6264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гральное исчис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539640" y="2133720"/>
            <a:ext cx="3362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определенный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гра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5796000" y="2133720"/>
            <a:ext cx="2800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ны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гра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539640" y="3284640"/>
            <a:ext cx="31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первообразна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10"/>
          <p:cNvSpPr txBox="1"/>
          <p:nvPr/>
        </p:nvSpPr>
        <p:spPr>
          <a:xfrm>
            <a:off x="5724360" y="3213000"/>
            <a:ext cx="3133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площад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иволинейной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гуры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2268360" y="1125360"/>
            <a:ext cx="2448000" cy="935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4859280" y="1125360"/>
            <a:ext cx="2305080" cy="935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979640" y="3789360"/>
            <a:ext cx="0" cy="576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7451640" y="4869000"/>
            <a:ext cx="0" cy="576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WordArt 15"/>
          <p:cNvSpPr txBox="1"/>
          <p:nvPr/>
        </p:nvSpPr>
        <p:spPr>
          <a:xfrm>
            <a:off x="1042920" y="4437000"/>
            <a:ext cx="200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.Ньюто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WordArt 16"/>
          <p:cNvSpPr txBox="1"/>
          <p:nvPr/>
        </p:nvSpPr>
        <p:spPr>
          <a:xfrm>
            <a:off x="6300720" y="5589720"/>
            <a:ext cx="211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Лейбни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24000" y="5157720"/>
                <a:ext cx="576072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</m:e>
                    </m:d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195640" y="836640"/>
            <a:ext cx="5040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фференциров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2556000" y="5013360"/>
            <a:ext cx="439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гриров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1187280" y="2349360"/>
            <a:ext cx="7128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7"/>
          <p:cNvSpPr/>
          <p:nvPr/>
        </p:nvSpPr>
        <p:spPr>
          <a:xfrm flipH="1">
            <a:off x="1331640" y="4508640"/>
            <a:ext cx="6985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1258920" y="2852640"/>
            <a:ext cx="1800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(t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9"/>
          <p:cNvSpPr txBox="1"/>
          <p:nvPr/>
        </p:nvSpPr>
        <p:spPr>
          <a:xfrm>
            <a:off x="3851280" y="2852640"/>
            <a:ext cx="165564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(t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WordArt 10"/>
          <p:cNvSpPr txBox="1"/>
          <p:nvPr/>
        </p:nvSpPr>
        <p:spPr>
          <a:xfrm>
            <a:off x="6443640" y="2924280"/>
            <a:ext cx="1584360" cy="11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(t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AutoShape 11"/>
          <p:cNvSpPr/>
          <p:nvPr/>
        </p:nvSpPr>
        <p:spPr>
          <a:xfrm rot="5400000">
            <a:off x="8316720" y="213372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AutoShape 12"/>
          <p:cNvSpPr/>
          <p:nvPr/>
        </p:nvSpPr>
        <p:spPr>
          <a:xfrm rot="16200000">
            <a:off x="1042920" y="429228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1285920" y="928800"/>
            <a:ext cx="74293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менение интеграл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лощадь фигу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бъем тела вращ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электрического заря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переменной сил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Ма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еремещ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ифференциальное уравн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авл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оличество тепло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428760" y="357120"/>
            <a:ext cx="8001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Задач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Найти объём наклонной треугольной призмы с основанием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и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           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ысотой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857160" y="1214280"/>
            <a:ext cx="5264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. Введём ось ОХ перпендикулярно основаниям приз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2. (АВС)</a:t>
            </a:r>
            <a:r>
              <a:rPr b="1" lang="ru-RU" sz="1800" spc="-1" strike="noStrike">
                <a:solidFill>
                  <a:srgbClr val="333399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OX=a, a=0,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(A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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OX=b, b=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71680" y="2357280"/>
            <a:ext cx="47210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3. Проведём плоскость перпендикулярно ОХ через точку с абсциссой 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-треугольник, равный основания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Площадь А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равна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227640" y="57150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твет: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V=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42960" y="3571920"/>
            <a:ext cx="46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. S(x)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непрерывна на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[0;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Group 7"/>
          <p:cNvGrpSpPr/>
          <p:nvPr/>
        </p:nvGrpSpPr>
        <p:grpSpPr>
          <a:xfrm>
            <a:off x="357120" y="4869000"/>
            <a:ext cx="5294160" cy="1094760"/>
            <a:chOff x="357120" y="4869000"/>
            <a:chExt cx="5294160" cy="1094760"/>
          </a:xfrm>
        </p:grpSpPr>
        <p:sp>
          <p:nvSpPr>
            <p:cNvPr id="163" name="Text Box 8"/>
            <p:cNvSpPr/>
            <p:nvPr/>
          </p:nvSpPr>
          <p:spPr>
            <a:xfrm>
              <a:off x="357120" y="4869000"/>
              <a:ext cx="45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33399"/>
                  </a:solidFill>
                  <a:latin typeface="Times New Roman"/>
                </a:rPr>
                <a:t>5.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Object 2"/>
                <p:cNvSpPr txBox="1"/>
                <p:nvPr/>
              </p:nvSpPr>
              <p:spPr>
                <a:xfrm>
                  <a:off x="727200" y="4940280"/>
                  <a:ext cx="492408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h</m:t>
                          </m:r>
                        </m:sup>
                        <m:e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h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>Sd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x</m:t>
                          </m:r>
                          <m:sSubSup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h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h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h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5" name="Group 10"/>
          <p:cNvGrpSpPr/>
          <p:nvPr/>
        </p:nvGrpSpPr>
        <p:grpSpPr>
          <a:xfrm>
            <a:off x="5643720" y="1143000"/>
            <a:ext cx="3286080" cy="4321080"/>
            <a:chOff x="5643720" y="1143000"/>
            <a:chExt cx="3286080" cy="4321080"/>
          </a:xfrm>
        </p:grpSpPr>
        <p:sp>
          <p:nvSpPr>
            <p:cNvPr id="166" name="AutoShape 11"/>
            <p:cNvSpPr/>
            <p:nvPr/>
          </p:nvSpPr>
          <p:spPr>
            <a:xfrm>
              <a:off x="5643720" y="1143000"/>
              <a:ext cx="328608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6073200" y="4983840"/>
              <a:ext cx="57060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" name="Group 13"/>
            <p:cNvGrpSpPr/>
            <p:nvPr/>
          </p:nvGrpSpPr>
          <p:grpSpPr>
            <a:xfrm>
              <a:off x="5643720" y="1143000"/>
              <a:ext cx="3285720" cy="3840480"/>
              <a:chOff x="5643720" y="1143000"/>
              <a:chExt cx="3285720" cy="3840480"/>
            </a:xfrm>
          </p:grpSpPr>
          <p:sp>
            <p:nvSpPr>
              <p:cNvPr id="169" name="Line 14"/>
              <p:cNvSpPr/>
              <p:nvPr/>
            </p:nvSpPr>
            <p:spPr>
              <a:xfrm>
                <a:off x="6112080" y="4263840"/>
                <a:ext cx="1407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Line 15"/>
              <p:cNvSpPr/>
              <p:nvPr/>
            </p:nvSpPr>
            <p:spPr>
              <a:xfrm>
                <a:off x="6112080" y="4263840"/>
                <a:ext cx="470160" cy="71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Line 16"/>
              <p:cNvSpPr/>
              <p:nvPr/>
            </p:nvSpPr>
            <p:spPr>
              <a:xfrm flipV="1">
                <a:off x="6582600" y="4263480"/>
                <a:ext cx="937080" cy="71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17"/>
              <p:cNvSpPr/>
              <p:nvPr/>
            </p:nvSpPr>
            <p:spPr>
              <a:xfrm>
                <a:off x="6582600" y="1862640"/>
                <a:ext cx="1407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18"/>
              <p:cNvSpPr/>
              <p:nvPr/>
            </p:nvSpPr>
            <p:spPr>
              <a:xfrm>
                <a:off x="6582600" y="1862640"/>
                <a:ext cx="47016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19"/>
              <p:cNvSpPr/>
              <p:nvPr/>
            </p:nvSpPr>
            <p:spPr>
              <a:xfrm flipV="1">
                <a:off x="7052760" y="1862640"/>
                <a:ext cx="93708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20"/>
              <p:cNvSpPr/>
              <p:nvPr/>
            </p:nvSpPr>
            <p:spPr>
              <a:xfrm flipV="1">
                <a:off x="6112080" y="1862280"/>
                <a:ext cx="470160" cy="240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21"/>
              <p:cNvSpPr/>
              <p:nvPr/>
            </p:nvSpPr>
            <p:spPr>
              <a:xfrm flipH="1">
                <a:off x="7520040" y="1862640"/>
                <a:ext cx="470160" cy="240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 flipH="1">
                <a:off x="6582600" y="2583000"/>
                <a:ext cx="468720" cy="240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Text Box 23"/>
              <p:cNvSpPr/>
              <p:nvPr/>
            </p:nvSpPr>
            <p:spPr>
              <a:xfrm>
                <a:off x="5643720" y="4024440"/>
                <a:ext cx="46836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ahoma"/>
                  </a:rPr>
                  <a:t>А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Text Box 24"/>
              <p:cNvSpPr/>
              <p:nvPr/>
            </p:nvSpPr>
            <p:spPr>
              <a:xfrm>
                <a:off x="7755840" y="4024440"/>
                <a:ext cx="70812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ahoma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Text Box 25"/>
              <p:cNvSpPr/>
              <p:nvPr/>
            </p:nvSpPr>
            <p:spPr>
              <a:xfrm>
                <a:off x="5643720" y="1143000"/>
                <a:ext cx="93888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ahoma"/>
                  </a:rPr>
                  <a:t>А</a:t>
                </a:r>
                <a:r>
                  <a:rPr b="0" lang="ru-RU" sz="12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Text Box 26"/>
              <p:cNvSpPr/>
              <p:nvPr/>
            </p:nvSpPr>
            <p:spPr>
              <a:xfrm>
                <a:off x="7990200" y="1143000"/>
                <a:ext cx="93924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ahoma"/>
                  </a:rPr>
                  <a:t>В</a:t>
                </a:r>
                <a:r>
                  <a:rPr b="0" lang="ru-RU" sz="12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7051320" y="2583000"/>
                <a:ext cx="94212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ahoma"/>
                  </a:rPr>
                  <a:t>С</a:t>
                </a:r>
                <a:r>
                  <a:rPr b="0" lang="ru-RU" sz="12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3" name="Group 28"/>
          <p:cNvGrpSpPr/>
          <p:nvPr/>
        </p:nvGrpSpPr>
        <p:grpSpPr>
          <a:xfrm>
            <a:off x="6858000" y="1414080"/>
            <a:ext cx="1566360" cy="4176720"/>
            <a:chOff x="6858000" y="1414080"/>
            <a:chExt cx="1566360" cy="4176720"/>
          </a:xfrm>
        </p:grpSpPr>
        <p:grpSp>
          <p:nvGrpSpPr>
            <p:cNvPr id="184" name="Group 29"/>
            <p:cNvGrpSpPr/>
            <p:nvPr/>
          </p:nvGrpSpPr>
          <p:grpSpPr>
            <a:xfrm>
              <a:off x="6858000" y="1414080"/>
              <a:ext cx="1392120" cy="3855240"/>
              <a:chOff x="6858000" y="1414080"/>
              <a:chExt cx="1392120" cy="3855240"/>
            </a:xfrm>
          </p:grpSpPr>
          <p:sp>
            <p:nvSpPr>
              <p:cNvPr id="185" name="Line 30"/>
              <p:cNvSpPr/>
              <p:nvPr/>
            </p:nvSpPr>
            <p:spPr>
              <a:xfrm flipV="1">
                <a:off x="7205040" y="1414080"/>
                <a:ext cx="1080" cy="385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Text Box 31"/>
              <p:cNvSpPr/>
              <p:nvPr/>
            </p:nvSpPr>
            <p:spPr>
              <a:xfrm>
                <a:off x="7380000" y="1575000"/>
                <a:ext cx="8701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ahoma"/>
                  </a:rPr>
                  <a:t>Х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Text Box 32"/>
              <p:cNvSpPr/>
              <p:nvPr/>
            </p:nvSpPr>
            <p:spPr>
              <a:xfrm>
                <a:off x="6858000" y="2056680"/>
                <a:ext cx="870120" cy="48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Text Box 33"/>
              <p:cNvSpPr/>
              <p:nvPr/>
            </p:nvSpPr>
            <p:spPr>
              <a:xfrm>
                <a:off x="6858000" y="4305960"/>
                <a:ext cx="8701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9" name="Text Box 34"/>
            <p:cNvSpPr/>
            <p:nvPr/>
          </p:nvSpPr>
          <p:spPr>
            <a:xfrm>
              <a:off x="7031880" y="2056680"/>
              <a:ext cx="1392480" cy="12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35"/>
            <p:cNvSpPr/>
            <p:nvPr/>
          </p:nvSpPr>
          <p:spPr>
            <a:xfrm>
              <a:off x="7031160" y="4305960"/>
              <a:ext cx="1392480" cy="12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Text Box 36"/>
            <p:cNvSpPr/>
            <p:nvPr/>
          </p:nvSpPr>
          <p:spPr>
            <a:xfrm>
              <a:off x="7031880" y="3181680"/>
              <a:ext cx="1392480" cy="12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Text Box 37"/>
            <p:cNvSpPr/>
            <p:nvPr/>
          </p:nvSpPr>
          <p:spPr>
            <a:xfrm>
              <a:off x="7380000" y="3181680"/>
              <a:ext cx="17388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xx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Group 38"/>
          <p:cNvGrpSpPr/>
          <p:nvPr/>
        </p:nvGrpSpPr>
        <p:grpSpPr>
          <a:xfrm>
            <a:off x="6012000" y="2638440"/>
            <a:ext cx="2628360" cy="1798200"/>
            <a:chOff x="6012000" y="2638440"/>
            <a:chExt cx="2628360" cy="1798200"/>
          </a:xfrm>
        </p:grpSpPr>
        <p:sp>
          <p:nvSpPr>
            <p:cNvPr id="194" name="Line 39"/>
            <p:cNvSpPr/>
            <p:nvPr/>
          </p:nvSpPr>
          <p:spPr>
            <a:xfrm>
              <a:off x="6450120" y="2818080"/>
              <a:ext cx="146016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Line 40"/>
            <p:cNvSpPr/>
            <p:nvPr/>
          </p:nvSpPr>
          <p:spPr>
            <a:xfrm>
              <a:off x="6450120" y="2818080"/>
              <a:ext cx="4881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Line 41"/>
            <p:cNvSpPr/>
            <p:nvPr/>
          </p:nvSpPr>
          <p:spPr>
            <a:xfrm flipV="1">
              <a:off x="6938280" y="2818080"/>
              <a:ext cx="97200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Text Box 42"/>
            <p:cNvSpPr/>
            <p:nvPr/>
          </p:nvSpPr>
          <p:spPr>
            <a:xfrm>
              <a:off x="6743880" y="3717360"/>
              <a:ext cx="8762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Text Box 43"/>
            <p:cNvSpPr/>
            <p:nvPr/>
          </p:nvSpPr>
          <p:spPr>
            <a:xfrm>
              <a:off x="6012000" y="2638440"/>
              <a:ext cx="730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44"/>
            <p:cNvSpPr/>
            <p:nvPr/>
          </p:nvSpPr>
          <p:spPr>
            <a:xfrm>
              <a:off x="7910280" y="2638440"/>
              <a:ext cx="7300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357120" y="572760"/>
            <a:ext cx="8429760" cy="61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з эксперимента известно, что скорость размножения бактерий пропорциональна их количеству. За какое время количество бактерий увеличится в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раз по сравнению с начальным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Пусть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) – количество бактерий в момент времени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.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x(0) = x</a:t>
            </a:r>
            <a:r>
              <a:rPr b="0" lang="en-US" sz="20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Изменение количества бактерий со временем описывается уравнением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´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) 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kx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),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&gt;0,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, 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ln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| =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kt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ln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|,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</a:rPr>
              <a:t>k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</a:rPr>
              <a:t>ln</a:t>
            </a:r>
            <a:r>
              <a:rPr b="0" lang="ru-RU" sz="2000" spc="-1" strike="noStrike" baseline="30000">
                <a:solidFill>
                  <a:srgbClr val="333399"/>
                </a:solidFill>
                <a:latin typeface="Tahoma"/>
              </a:rPr>
              <a:t>|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</a:rPr>
              <a:t>C</a:t>
            </a:r>
            <a:r>
              <a:rPr b="0" lang="ru-RU" sz="2000" spc="-1" strike="noStrike" baseline="30000">
                <a:solidFill>
                  <a:srgbClr val="333399"/>
                </a:solidFill>
                <a:latin typeface="Tahoma"/>
              </a:rPr>
              <a:t>|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,    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ahoma"/>
              </a:rPr>
              <a:t>kt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- общее решение уравнения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226440" y="84816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39760" y="123876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7000920" y="4500720"/>
                <a:ext cx="14763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7"/>
              <p:cNvSpPr txBox="1"/>
              <p:nvPr/>
            </p:nvSpPr>
            <p:spPr>
              <a:xfrm>
                <a:off x="4786200" y="4500720"/>
                <a:ext cx="1143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Box 7"/>
          <p:cNvSpPr/>
          <p:nvPr/>
        </p:nvSpPr>
        <p:spPr>
          <a:xfrm>
            <a:off x="2214720" y="78588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1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3786120" y="1428840"/>
            <a:ext cx="3791160" cy="417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Object 6"/>
              <p:cNvSpPr txBox="1"/>
              <p:nvPr/>
            </p:nvSpPr>
            <p:spPr>
              <a:xfrm>
                <a:off x="7093080" y="1916280"/>
                <a:ext cx="15825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8"/>
              <p:cNvSpPr txBox="1"/>
              <p:nvPr/>
            </p:nvSpPr>
            <p:spPr>
              <a:xfrm>
                <a:off x="2843280" y="1341360"/>
                <a:ext cx="15843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Line 11"/>
          <p:cNvSpPr/>
          <p:nvPr/>
        </p:nvSpPr>
        <p:spPr>
          <a:xfrm>
            <a:off x="6804000" y="2276640"/>
            <a:ext cx="0" cy="2879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5435640" y="4581360"/>
            <a:ext cx="0" cy="574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4"/>
              <p:cNvSpPr txBox="1"/>
              <p:nvPr/>
            </p:nvSpPr>
            <p:spPr>
              <a:xfrm>
                <a:off x="1116000" y="2421000"/>
                <a:ext cx="30956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1285920" y="64296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y“=-</a:t>
            </a:r>
            <a:r>
              <a:rPr b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²y –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ифференциальное уравнение гармонических колеб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ω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заданное положительное числ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y=y‘(x)  y“=(y‘(x))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500040" y="24289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Решением являются функци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Y(x)=Asin(</a:t>
            </a: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ω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φ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, гд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– амплитуда колеба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ω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 – частота, </a:t>
            </a: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φ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 – начальная фаз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785880" y="38577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Графиком гармонических колебаний является синусои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Рисунок 4" descr="C:\Documents and Settings\USER\Мои документы\рис33.wmf"/>
          <p:cNvPicPr/>
          <p:nvPr/>
        </p:nvPicPr>
        <p:blipFill>
          <a:blip r:embed="rId1"/>
          <a:stretch/>
        </p:blipFill>
        <p:spPr>
          <a:xfrm>
            <a:off x="2357280" y="4286160"/>
            <a:ext cx="428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1285920" y="285840"/>
            <a:ext cx="742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Demi"/>
              </a:rPr>
              <a:t>Уже Архимед успешно находил площади фигур, несмотря на то, что в математике его времени не было понятия интегра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Demi"/>
              </a:rPr>
              <a:t>Но лишь интегральное исчисление дает общий метод решения  задач из различных областей нау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Demi"/>
              </a:rPr>
              <a:t>Недаром даже поэты воспевали интегра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214200" y="2214720"/>
            <a:ext cx="8429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ысл- там, где змеи интеграла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 цифр и букв , меж d и f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м – власть, там творческие горны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 волей чисел все – раб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олнца путь вершат, покорны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мым речам и ворожбы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Брюсов.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1928880" y="5716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928800" y="123480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Arial Unicode MS"/>
              </a:rPr>
              <a:t>Применение физических моделей при введении понятия интеграла, рассмотрении его свойств, отработке техники интегрирования и изучении приложений способствует осознанному качественному усвоению  материала, развитию правильного представления об изучаемом понятии, его огромной значимости в различных науках, формированию мировоззрения,  таких специальных качеств, как умение строить математические модели реальных процессов и явлений, исследовать и изучать их, а, следовательно, способствует развитию мышления, памяти, внимания и реч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7" descr="pic_economy"/>
          <p:cNvPicPr/>
          <p:nvPr/>
        </p:nvPicPr>
        <p:blipFill>
          <a:blip r:embed="rId1"/>
          <a:stretch/>
        </p:blipFill>
        <p:spPr>
          <a:xfrm>
            <a:off x="4786200" y="285840"/>
            <a:ext cx="4214880" cy="3692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85520" y="1428840"/>
            <a:ext cx="37861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733920" y="99072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71680" y="1714680"/>
            <a:ext cx="414324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60ce0"/>
                </a:solidFill>
                <a:uFillTx/>
                <a:latin typeface="Tahoma"/>
              </a:rPr>
              <a:t>Выполнил</a:t>
            </a:r>
            <a:r>
              <a:rPr b="1" lang="ru-RU" sz="2000" spc="-1" strike="noStrike">
                <a:solidFill>
                  <a:srgbClr val="160ce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ce0"/>
                </a:solidFill>
                <a:latin typeface="Tahoma"/>
              </a:rPr>
              <a:t>Ершов Николай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ce0"/>
                </a:solidFill>
                <a:latin typeface="Tahoma"/>
              </a:rPr>
              <a:t>ученик 11 клас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60ce0"/>
                </a:solidFill>
                <a:uFillTx/>
                <a:latin typeface="Tahoma"/>
              </a:rPr>
              <a:t>Руководитель</a:t>
            </a:r>
            <a:r>
              <a:rPr b="1" lang="ru-RU" sz="2000" spc="-1" strike="noStrike">
                <a:solidFill>
                  <a:srgbClr val="160ce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ce0"/>
                </a:solidFill>
                <a:latin typeface="Tahoma"/>
              </a:rPr>
              <a:t>Дедовец Надежда Артемовн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ce0"/>
                </a:solidFill>
                <a:latin typeface="Tahom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ce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3352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ce0"/>
                </a:solidFill>
                <a:latin typeface="Tahoma"/>
              </a:rPr>
              <a:t>С. Большой Атлы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ce0"/>
                </a:solidFill>
                <a:latin typeface="Tahoma"/>
              </a:rPr>
              <a:t>2012-2013 уч.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357120" y="1857240"/>
            <a:ext cx="850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Цель работы: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сширить область математических знаний. Развивать логическое мышлени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вести  общие формулы, позволяющие решать задачи  интегрир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казать, что интеграл  широко применяется в   различных сферах жизнедеятельнос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600" y="2017800"/>
            <a:ext cx="831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 исследования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- собрать, изучить и систематизировать материал об интеграл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- рассмотреть, как интеграл используется при  решении различных жизненных ситуац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- использование интеграла в различных сферах жизнеде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1071720" y="394200"/>
            <a:ext cx="7715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Times New Roman"/>
                <a:ea typeface="Arial Unicode MS"/>
              </a:rPr>
              <a:t>Объект исследования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Arial Unicode MS"/>
              </a:rPr>
              <a:t>: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Arial Unicode MS"/>
              </a:rPr>
              <a:t>область математики – интегрирова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емного истории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2"/>
              <p:cNvSpPr txBox="1"/>
              <p:nvPr/>
            </p:nvSpPr>
            <p:spPr>
              <a:xfrm>
                <a:off x="1357200" y="2000160"/>
                <a:ext cx="16560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у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" name="Text Box 10"/>
          <p:cNvSpPr/>
          <p:nvPr/>
        </p:nvSpPr>
        <p:spPr>
          <a:xfrm>
            <a:off x="3132000" y="2421000"/>
            <a:ext cx="54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1675 г, опубликовано в 1686 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вел Г.Лейбн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1476360" y="3645000"/>
                <a:ext cx="15843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Text Box 13"/>
          <p:cNvSpPr/>
          <p:nvPr/>
        </p:nvSpPr>
        <p:spPr>
          <a:xfrm>
            <a:off x="3132000" y="3860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1675 г, Ж Лагран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39640" y="4869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5 век до н.э. др.гр. ученый Демокр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79280" y="57340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-4 век до н.э. Архимед ввел метод исчерпы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D:\КИМы_фотоПрезенатция\evdoks.jpg"/>
          <p:cNvPicPr/>
          <p:nvPr/>
        </p:nvPicPr>
        <p:blipFill>
          <a:blip r:embed="rId1"/>
          <a:stretch/>
        </p:blipFill>
        <p:spPr>
          <a:xfrm>
            <a:off x="357120" y="1857240"/>
            <a:ext cx="2214720" cy="27147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214200" y="48578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Demi"/>
              </a:rPr>
              <a:t>Евдокс Книдс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Demi"/>
              </a:rPr>
              <a:t>408 – 355 до н. 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6858000" y="192888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Demi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Demi"/>
              </a:rPr>
              <a:t>287 – 212  до н.э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7" descr="D:\КИМы_фотоПрезенатция\архимед.jpg"/>
          <p:cNvPicPr/>
          <p:nvPr/>
        </p:nvPicPr>
        <p:blipFill>
          <a:blip r:embed="rId2"/>
          <a:stretch/>
        </p:blipFill>
        <p:spPr>
          <a:xfrm>
            <a:off x="6572160" y="2786040"/>
            <a:ext cx="2214720" cy="3000240"/>
          </a:xfrm>
          <a:prstGeom prst="rect">
            <a:avLst/>
          </a:prstGeom>
          <a:ln w="0">
            <a:noFill/>
          </a:ln>
        </p:spPr>
      </p:pic>
      <p:pic>
        <p:nvPicPr>
          <p:cNvPr id="123" name="Вертикальный свиток 6" descr=""/>
          <p:cNvPicPr/>
          <p:nvPr/>
        </p:nvPicPr>
        <p:blipFill>
          <a:blip r:embed="rId3"/>
          <a:stretch/>
        </p:blipFill>
        <p:spPr>
          <a:xfrm>
            <a:off x="2193840" y="1981080"/>
            <a:ext cx="4395960" cy="439596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7" descr=""/>
          <p:cNvPicPr/>
          <p:nvPr/>
        </p:nvPicPr>
        <p:blipFill>
          <a:blip r:embed="rId4"/>
          <a:stretch/>
        </p:blipFill>
        <p:spPr>
          <a:xfrm>
            <a:off x="853920" y="73080"/>
            <a:ext cx="808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2760" y="1642680"/>
            <a:ext cx="631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Интеграл»  придумал Я.Бернулли (169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восстанавливать» от латинског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целый» от латинског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14200" y="2571840"/>
            <a:ext cx="22003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642960" y="2071800"/>
            <a:ext cx="3370320" cy="4608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900000" y="40464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аак Ньютон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(1643-1727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4716360" y="2565360"/>
            <a:ext cx="3673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умом о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восходил род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ки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крец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ейбниц Готфрид Вильгельм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(1646-171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611520" cy="457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« Общее искусство знаков представляет чудесное пособие, так как оно разгружает воображение… Следует заботиться о том, чтобы обозначения были удобны для открытий. Обозначения коротко выражают и отображают сущность вещей. Тогда поразительным образом сокращается работа мысли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5:06:35Z</dcterms:created>
  <dc:creator>User</dc:creator>
  <dc:description/>
  <dc:language>en-US</dc:language>
  <cp:lastModifiedBy>Ируся</cp:lastModifiedBy>
  <dcterms:modified xsi:type="dcterms:W3CDTF">2013-01-22T09:14:38Z</dcterms:modified>
  <cp:revision>27</cp:revision>
  <dc:subject/>
  <dc:title>Интеграл</dc:title>
</cp:coreProperties>
</file>